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2516-B124-48D3-9B16-755E565D3A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F0351154-5475-4966-AC78-1EF239FF72A2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26A5-F006-44A1-A83B-1C8DE681B6D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A681-7777-4156-9DE0-A64A8EF7ABD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89F-2E65-48E4-8356-DB52F5DAE49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F493-C6DA-4424-BC94-01AA4D8D9FF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513-84E6-4CAD-87A6-ECE800AEED9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ED72-B97F-46FE-BF49-70443676927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1725-E688-4364-A57F-B0E698CD3AE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FD4-DF12-4D1A-ACDD-D4E57E468E7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97B-3B19-4580-87EE-EEF09D0CDAF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553-B21D-43EF-8AB4-DCE71CB9642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25E7-88E7-437A-9C1A-A0ED7DDF2D9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EBE2-EF37-4C62-816C-4B2CAD900A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6478-1B29-486B-8A2E-B6A24B9D349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7353-8891-4C8A-9478-63F2C7665D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73E-63D8-4418-B81F-FDA76A47D74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145E-580F-4BF0-9492-33133E73B48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D843-EB8F-4D18-B226-F3BBB2B5F2F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91B-CD47-46BD-B7AA-9B444663792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3089-4FB3-44ED-AD89-7A1158D6EBC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8E2C-FD2A-4CD9-A5D4-C298D856B52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36B3-5F64-42C1-B199-77771493B62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7083-34C0-4B4A-851C-B5D4D046745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69B5-06EF-40CC-8A0C-FC141ED812A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A75-4F29-4A0C-938E-C5B68DD440E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BD17-EC0B-4694-9096-10275CCCDED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EE79-764F-4497-BF88-AF319E4DED4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DB47-6AAD-41A5-B542-1AC2398CC1B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769D-60C9-4FFA-8D7C-3A14FD4C7B6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E22-516D-4521-A971-5B29618431B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D1BE-0FB1-4116-A3E5-F7D342E182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FE56-7A1B-40ED-AC8D-40B2A691A0A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F0B7-082E-45B9-A5EC-54383A631F1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F77E-3C11-417C-9840-C0FF2DE6D65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65F-8FA2-4126-BE8E-8043A1949EB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BB3E-2082-43A0-B8CD-99604B55BE3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88D3-D9ED-48DC-9541-FC43140F589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DC5-E391-40A8-9BF0-B176F27C760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38F5-485F-4544-9C42-36429C19D33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4D8B-9542-4270-B9DD-C416D666411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97F-903A-45BF-BC80-A33DCEBD844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A8A-DA30-4E76-86F5-66BD00DFD8D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781C-11A9-4EE7-B62E-B86907061C6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B80B-5A75-4B73-951E-58F0A805E62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AB0-07FC-431B-AEC3-4475E2782B8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F517-E14E-40F7-B4CF-DCA700770D1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A129-E367-4840-BE37-F2A9737DF19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FA7A-622A-4FD8-AB09-00FA0256B87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08AD-AF90-44A9-9411-0C5375405D9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21A4-144E-4CFD-99A1-1853700CBEA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9A80-923E-43FD-93FB-3F25BCC5C51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172-2ADC-4592-9A32-A3EAF5A8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E3BB-6BA6-46FF-83E7-E7BFC584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D398-6518-4638-A6D9-C35A0C5A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D97-A70F-459A-B125-D22B164A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52D8-F89C-414D-8B70-DBD35A43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528E-3CFE-4788-92FB-C48B8FEC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136C-1433-4C26-AAF4-3209C753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6D59-469A-4FCA-AEF5-3F155AD1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DA8D-5BF5-48DE-8BBB-DF53E6D2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EBF7-9E8A-41CB-8F4A-8FE10A1D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9CF0-E3E8-462E-87E3-5CA5EAC8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DD8-A2CB-4641-A7B2-B7368DF1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A0E2-5503-49D7-A14A-B1948803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0FD0-D440-4D3C-A21C-A3CAFB8E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1DC4-76EB-4EA2-8D38-3D4FF281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39C7-4A35-4D2B-9D48-AB5EAEAF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078E-04D5-4264-BB72-0F1307581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B66B-85E5-47BB-8BCD-74A8398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960-84C7-4EDC-BD4E-66B7626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6A2-8398-49DC-9E17-B4FD814E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150-1432-4481-9989-BCDDE02A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A930-C12C-4C75-890D-176FCE9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0E0-93A8-4F6C-89AA-E60DE23D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ADE-8F0D-4EE3-823E-65799515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8096-8FF4-40EA-8F0C-7673B0F2A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14DA-054A-426C-8A8C-CB6E6D5982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"/>
          <p:cNvPicPr/>
          <p:nvPr/>
        </p:nvPicPr>
        <p:blipFill>
          <a:blip r:embed="rId1"/>
          <a:stretch/>
        </p:blipFill>
        <p:spPr>
          <a:xfrm>
            <a:off x="990720" y="1824120"/>
            <a:ext cx="7162560" cy="503388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16"/>
          <p:cNvGrpSpPr/>
          <p:nvPr/>
        </p:nvGrpSpPr>
        <p:grpSpPr>
          <a:xfrm>
            <a:off x="762120" y="457200"/>
            <a:ext cx="7772400" cy="1647720"/>
            <a:chOff x="762120" y="457200"/>
            <a:chExt cx="7772400" cy="1647720"/>
          </a:xfrm>
        </p:grpSpPr>
        <p:sp>
          <p:nvSpPr>
            <p:cNvPr id="102" name="WordArt 10"/>
            <p:cNvSpPr txBox="1"/>
            <p:nvPr/>
          </p:nvSpPr>
          <p:spPr>
            <a:xfrm>
              <a:off x="762120" y="457200"/>
              <a:ext cx="7772400" cy="1219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9080">
                    <a:solidFill>
                      <a:srgbClr val="000066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Ch. 17 - Dividend Policy</a:t>
              </a:r>
              <a:endPara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3" name="WordArt 14"/>
            <p:cNvSpPr txBox="1"/>
            <p:nvPr/>
          </p:nvSpPr>
          <p:spPr>
            <a:xfrm>
              <a:off x="4800600" y="1676520"/>
              <a:ext cx="370512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Impact"/>
                </a:rPr>
                <a:t>and Internal Financing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pay dividends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76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pay dividends,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ockholders receive an immediate cash reward for investing,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85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2" name="Line 12"/>
          <p:cNvSpPr/>
          <p:nvPr/>
        </p:nvSpPr>
        <p:spPr>
          <a:xfrm flipV="1">
            <a:off x="8115480" y="171000"/>
            <a:ext cx="0" cy="1714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pay dividends, stockholders receive an immediate cash reward for investing,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t the capital gain will decrease, since this cash is not invested in the firm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4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95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2" name="Line 11"/>
          <p:cNvSpPr/>
          <p:nvPr/>
        </p:nvSpPr>
        <p:spPr>
          <a:xfrm>
            <a:off x="3029040" y="228600"/>
            <a:ext cx="0" cy="1733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Line 12"/>
          <p:cNvSpPr/>
          <p:nvPr/>
        </p:nvSpPr>
        <p:spPr>
          <a:xfrm flipV="1">
            <a:off x="8115480" y="171000"/>
            <a:ext cx="0" cy="171468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46416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, dividend policy really involves 2 decision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much of the firm’s earnings should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tributed to shareholders as dividend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an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much should b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tained for capital investme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7003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s Dividend Policy Importa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54380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hree viewpoints: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Dividends are Irreleva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assume perfect markets (no taxes, no transaction costs, etc.) dividends do not matter.  If we pay a dividend, shareholders’ dividend yield rises, but capital gains decreas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th perfect markets, investors are concerned only with total returns, and do not care whether returns come in the form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pital gain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vidend yield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210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th perfect markets, investors are concerned only with total returns, and do not care whether returns come in the form of capital gains or dividend yield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219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" name="Line 11"/>
          <p:cNvSpPr/>
          <p:nvPr/>
        </p:nvSpPr>
        <p:spPr>
          <a:xfrm>
            <a:off x="3029040" y="228600"/>
            <a:ext cx="0" cy="1733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12"/>
          <p:cNvSpPr/>
          <p:nvPr/>
        </p:nvSpPr>
        <p:spPr>
          <a:xfrm flipV="1">
            <a:off x="8115480" y="171000"/>
            <a:ext cx="0" cy="1714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914040" y="22096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th perfect markets, investors are concerned only with total returns, and do not care whether returns come in the form of capital gains or dividend yield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refore, one dividend policy is as good as anoth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230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7" name="Line 11"/>
          <p:cNvSpPr/>
          <p:nvPr/>
        </p:nvSpPr>
        <p:spPr>
          <a:xfrm>
            <a:off x="8153280" y="228600"/>
            <a:ext cx="0" cy="17334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 flipV="1">
            <a:off x="3048120" y="228240"/>
            <a:ext cx="0" cy="17146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13736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)  High Dividends are Bes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ome investors may prefer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ertain dividend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now over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y expected capital gai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 the futu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13736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)  High Dividends are Bes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ome investors may prefer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ertain dividend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now over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sky expected capital gai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 the futu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3" name="Group 13"/>
          <p:cNvGrpSpPr/>
          <p:nvPr/>
        </p:nvGrpSpPr>
        <p:grpSpPr>
          <a:xfrm>
            <a:off x="1372320" y="4114800"/>
            <a:ext cx="7416000" cy="1981080"/>
            <a:chOff x="1372320" y="4114800"/>
            <a:chExt cx="7416000" cy="1981080"/>
          </a:xfrm>
        </p:grpSpPr>
        <p:sp>
          <p:nvSpPr>
            <p:cNvPr id="244" name="Oval 4"/>
            <p:cNvSpPr/>
            <p:nvPr/>
          </p:nvSpPr>
          <p:spPr>
            <a:xfrm>
              <a:off x="7211880" y="4307040"/>
              <a:ext cx="1241640" cy="169200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Oval 5"/>
            <p:cNvSpPr/>
            <p:nvPr/>
          </p:nvSpPr>
          <p:spPr>
            <a:xfrm>
              <a:off x="3868560" y="4114800"/>
              <a:ext cx="239904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2309760" y="4545000"/>
              <a:ext cx="647856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>
              <a:off x="4203720" y="5122800"/>
              <a:ext cx="1652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7488360" y="5162400"/>
              <a:ext cx="6858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6506640" y="48340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1372320" y="47912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23592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turn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466640"/>
            <a:ext cx="813420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-  Po  +  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4"/>
          <p:cNvGrpSpPr/>
          <p:nvPr/>
        </p:nvGrpSpPr>
        <p:grpSpPr>
          <a:xfrm>
            <a:off x="1375560" y="1630440"/>
            <a:ext cx="5558760" cy="702000"/>
            <a:chOff x="1375560" y="1630440"/>
            <a:chExt cx="5558760" cy="702000"/>
          </a:xfrm>
        </p:grpSpPr>
        <p:sp>
          <p:nvSpPr>
            <p:cNvPr id="107" name="Line 6"/>
            <p:cNvSpPr/>
            <p:nvPr/>
          </p:nvSpPr>
          <p:spPr>
            <a:xfrm>
              <a:off x="4057560" y="2133720"/>
              <a:ext cx="28767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1375560" y="16304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310440" cy="11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3)  Low Dividends are Bes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vidends a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xed immediatel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Capital gains are not taxed until the stock is sol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refore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axes on capital gains can be deferred indefinitel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8420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Dividends Matt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Other Consideration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1)  Residual Dividend Theor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firm pays a dividend only if it has retained earnings left after financing all profitable investment opportuniti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would maximize capital gains for stockholders and minimize flotation costs of issuing new common stoc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8420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Dividends Matt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90720" y="144792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2)  Clientele Effec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fferent investor clienteles prefer different dividend payout lev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ome firms, such as utilities, pay out over 70% of their earnings as dividends.  These attract a clientele that prefers high divide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Growth-oriented firms which pay low (or no) dividends attract a clientele that prefers price appreciation to divide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8420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Dividends Matt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943760" cy="474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3)  Information Effect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nexpected dividend increases usually cause stock prices to rise, and unexpected dividend decreases cause stock prices to fall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vidend changes convey information to the market concerning the firm’s future prospec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8420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Dividends Matt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4)  Agency Cos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aying dividends may reduce agency costs between managers and sharehold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aying dividends reduces retained earnings and forces the firm to raise external equity financ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aising external equity subjects the firm to scrutiny of regulators (SEC) and investors and therefore helps monitor the performance of manag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0" y="380520"/>
            <a:ext cx="584208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Dividends Matter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90720" y="1460160"/>
            <a:ext cx="7829280" cy="53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5)  Expectations Theor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vestors form expectations concerning the amount of a firm’s upcoming divide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xpectations are based on past dividends, expected earnings, investment and financing decisions, the economy,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stock price will likely react if the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actual dividend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different from the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expected dividend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2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4317840" cy="7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olic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815328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stant Dividend Payout Ratio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directors declare a constant payout ratio of, for example, 30%, then for every dollar of earnings available to stockholders, 30 cents would be paid out as dividend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ratio remains constant over time, but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ollar value of dividends change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s earnings chang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4317840" cy="7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olic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720" y="1638000"/>
            <a:ext cx="74484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table Dollar Dividend Polic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he firm tries to pay a fixed dollar dividend each quart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rms and stockholders prefer stable dividends.  Decreasing the dividend sends a negative signal!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733920" y="380880"/>
            <a:ext cx="4317840" cy="7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olic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6773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mall Regular Dividend plus Year-End Extra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firm pays a stable quarterly dividend and includes an extra year-end dividend in prosperous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y identifying the year-end dividend as “extra,” directors hope to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void signal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at this is a permanent dividen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44280" y="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24080" y="2209680"/>
            <a:ext cx="5461200" cy="7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520" y="3035160"/>
            <a:ext cx="828684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Declaration Dat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he board of directors declares the dividend, determines the amount of the dividend, and decides on the payment da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38120" y="93600"/>
            <a:ext cx="869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n.4    Jan.30    Feb.1                       Mar. 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873000" y="647640"/>
            <a:ext cx="7810560" cy="520920"/>
            <a:chOff x="873000" y="647640"/>
            <a:chExt cx="7810560" cy="520920"/>
          </a:xfrm>
        </p:grpSpPr>
        <p:sp>
          <p:nvSpPr>
            <p:cNvPr id="274" name="Line 6"/>
            <p:cNvSpPr/>
            <p:nvPr/>
          </p:nvSpPr>
          <p:spPr>
            <a:xfrm>
              <a:off x="873000" y="876240"/>
              <a:ext cx="7810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Line 7"/>
            <p:cNvSpPr/>
            <p:nvPr/>
          </p:nvSpPr>
          <p:spPr>
            <a:xfrm>
              <a:off x="8683560" y="692280"/>
              <a:ext cx="0" cy="438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2682720" y="68580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245120" y="64764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Line 10"/>
            <p:cNvSpPr/>
            <p:nvPr/>
          </p:nvSpPr>
          <p:spPr>
            <a:xfrm>
              <a:off x="892080" y="66672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9" name="Rectangle 12"/>
          <p:cNvSpPr/>
          <p:nvPr/>
        </p:nvSpPr>
        <p:spPr>
          <a:xfrm>
            <a:off x="175320" y="1055520"/>
            <a:ext cx="89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lare      Ex-div.    Record                       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vidend      date         date                             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95000" y="1466640"/>
            <a:ext cx="813420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-  Po  +  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-  Po           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              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442224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" name="Group 14"/>
          <p:cNvGrpSpPr/>
          <p:nvPr/>
        </p:nvGrpSpPr>
        <p:grpSpPr>
          <a:xfrm>
            <a:off x="1375560" y="1630440"/>
            <a:ext cx="5558760" cy="2484360"/>
            <a:chOff x="1375560" y="1630440"/>
            <a:chExt cx="5558760" cy="2484360"/>
          </a:xfrm>
        </p:grpSpPr>
        <p:sp>
          <p:nvSpPr>
            <p:cNvPr id="112" name="Line 6"/>
            <p:cNvSpPr/>
            <p:nvPr/>
          </p:nvSpPr>
          <p:spPr>
            <a:xfrm>
              <a:off x="4057560" y="2133720"/>
              <a:ext cx="28767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Line 7"/>
            <p:cNvSpPr/>
            <p:nvPr/>
          </p:nvSpPr>
          <p:spPr>
            <a:xfrm>
              <a:off x="2400480" y="4114800"/>
              <a:ext cx="165708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5105520" y="409572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Rectangle 10"/>
            <p:cNvSpPr/>
            <p:nvPr/>
          </p:nvSpPr>
          <p:spPr>
            <a:xfrm>
              <a:off x="1375560" y="16304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6" name="Rectangle 11"/>
          <p:cNvSpPr/>
          <p:nvPr/>
        </p:nvSpPr>
        <p:spPr>
          <a:xfrm>
            <a:off x="137448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23592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turn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2600" y="6984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546120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3035160"/>
            <a:ext cx="828684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x-Dividend Dat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38120" y="93600"/>
            <a:ext cx="869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n.4    Jan.30    Feb.1                       Mar. 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4" name="Group 11"/>
          <p:cNvGrpSpPr/>
          <p:nvPr/>
        </p:nvGrpSpPr>
        <p:grpSpPr>
          <a:xfrm>
            <a:off x="873000" y="647640"/>
            <a:ext cx="7810560" cy="520920"/>
            <a:chOff x="873000" y="647640"/>
            <a:chExt cx="7810560" cy="520920"/>
          </a:xfrm>
        </p:grpSpPr>
        <p:sp>
          <p:nvSpPr>
            <p:cNvPr id="285" name="Line 6"/>
            <p:cNvSpPr/>
            <p:nvPr/>
          </p:nvSpPr>
          <p:spPr>
            <a:xfrm>
              <a:off x="873000" y="876240"/>
              <a:ext cx="7810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8683560" y="692280"/>
              <a:ext cx="0" cy="438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Line 8"/>
            <p:cNvSpPr/>
            <p:nvPr/>
          </p:nvSpPr>
          <p:spPr>
            <a:xfrm>
              <a:off x="2682720" y="68580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Line 9"/>
            <p:cNvSpPr/>
            <p:nvPr/>
          </p:nvSpPr>
          <p:spPr>
            <a:xfrm>
              <a:off x="4245120" y="64764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Line 10"/>
            <p:cNvSpPr/>
            <p:nvPr/>
          </p:nvSpPr>
          <p:spPr>
            <a:xfrm>
              <a:off x="892080" y="66672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0" name="Rectangle 12"/>
          <p:cNvSpPr/>
          <p:nvPr/>
        </p:nvSpPr>
        <p:spPr>
          <a:xfrm>
            <a:off x="175320" y="1055520"/>
            <a:ext cx="89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lare      Ex-div.    Record                       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vidend      date         date                             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2600" y="6984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546120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3035160"/>
            <a:ext cx="876312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x-Dividend Dat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o receive the dividend, you have to buy the stock before the ex-dividend date.  On this date, the stock begins trading “ex-dividend” and the stock price falls approximately by the amount of the dividen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438120" y="93600"/>
            <a:ext cx="869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n.4    Jan.30    Feb.1                       Mar. 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5" name="Group 11"/>
          <p:cNvGrpSpPr/>
          <p:nvPr/>
        </p:nvGrpSpPr>
        <p:grpSpPr>
          <a:xfrm>
            <a:off x="873000" y="647640"/>
            <a:ext cx="7810560" cy="520920"/>
            <a:chOff x="873000" y="647640"/>
            <a:chExt cx="7810560" cy="520920"/>
          </a:xfrm>
        </p:grpSpPr>
        <p:sp>
          <p:nvSpPr>
            <p:cNvPr id="296" name="Line 6"/>
            <p:cNvSpPr/>
            <p:nvPr/>
          </p:nvSpPr>
          <p:spPr>
            <a:xfrm>
              <a:off x="873000" y="876240"/>
              <a:ext cx="7810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Line 7"/>
            <p:cNvSpPr/>
            <p:nvPr/>
          </p:nvSpPr>
          <p:spPr>
            <a:xfrm>
              <a:off x="8683560" y="692280"/>
              <a:ext cx="0" cy="438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Line 8"/>
            <p:cNvSpPr/>
            <p:nvPr/>
          </p:nvSpPr>
          <p:spPr>
            <a:xfrm>
              <a:off x="2682720" y="68580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9"/>
            <p:cNvSpPr/>
            <p:nvPr/>
          </p:nvSpPr>
          <p:spPr>
            <a:xfrm>
              <a:off x="4245120" y="64764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892080" y="66672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1" name="Rectangle 12"/>
          <p:cNvSpPr/>
          <p:nvPr/>
        </p:nvSpPr>
        <p:spPr>
          <a:xfrm>
            <a:off x="175320" y="1055520"/>
            <a:ext cx="89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lare      Ex-div.    Record                       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vidend      date         date                             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12600" y="6984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546120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3035160"/>
            <a:ext cx="828684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Date of Recor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5" name="Group 13"/>
          <p:cNvGrpSpPr/>
          <p:nvPr/>
        </p:nvGrpSpPr>
        <p:grpSpPr>
          <a:xfrm>
            <a:off x="175320" y="93600"/>
            <a:ext cx="8956440" cy="2029320"/>
            <a:chOff x="175320" y="93600"/>
            <a:chExt cx="8956440" cy="2029320"/>
          </a:xfrm>
        </p:grpSpPr>
        <p:sp>
          <p:nvSpPr>
            <p:cNvPr id="306" name="Rectangle 5"/>
            <p:cNvSpPr/>
            <p:nvPr/>
          </p:nvSpPr>
          <p:spPr>
            <a:xfrm>
              <a:off x="438120" y="93600"/>
              <a:ext cx="869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Jan.4    Jan.30    Feb.1                       Mar. 11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7" name="Group 11"/>
            <p:cNvGrpSpPr/>
            <p:nvPr/>
          </p:nvGrpSpPr>
          <p:grpSpPr>
            <a:xfrm>
              <a:off x="873000" y="647640"/>
              <a:ext cx="7810560" cy="520920"/>
              <a:chOff x="873000" y="647640"/>
              <a:chExt cx="7810560" cy="520920"/>
            </a:xfrm>
          </p:grpSpPr>
          <p:sp>
            <p:nvSpPr>
              <p:cNvPr id="308" name="Line 6"/>
              <p:cNvSpPr/>
              <p:nvPr/>
            </p:nvSpPr>
            <p:spPr>
              <a:xfrm>
                <a:off x="873000" y="876240"/>
                <a:ext cx="781056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9" name="Line 7"/>
              <p:cNvSpPr/>
              <p:nvPr/>
            </p:nvSpPr>
            <p:spPr>
              <a:xfrm>
                <a:off x="8683560" y="692280"/>
                <a:ext cx="0" cy="4381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0" name="Line 8"/>
              <p:cNvSpPr/>
              <p:nvPr/>
            </p:nvSpPr>
            <p:spPr>
              <a:xfrm>
                <a:off x="2682720" y="685800"/>
                <a:ext cx="0" cy="4827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1" name="Line 9"/>
              <p:cNvSpPr/>
              <p:nvPr/>
            </p:nvSpPr>
            <p:spPr>
              <a:xfrm>
                <a:off x="4245120" y="647640"/>
                <a:ext cx="0" cy="4827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12" name="Line 10"/>
              <p:cNvSpPr/>
              <p:nvPr/>
            </p:nvSpPr>
            <p:spPr>
              <a:xfrm>
                <a:off x="892080" y="666720"/>
                <a:ext cx="0" cy="4827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13" name="Rectangle 12"/>
            <p:cNvSpPr/>
            <p:nvPr/>
          </p:nvSpPr>
          <p:spPr>
            <a:xfrm>
              <a:off x="175320" y="1055520"/>
              <a:ext cx="89524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Declare      Ex-div.    Record                       Paymen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dividend      date         date                              dat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12600" y="6984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546120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3035160"/>
            <a:ext cx="876312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Date of Recor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2 days after the ex-dividend date, the firm receives the list of stockholders eligible for the dividend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ften, a bank trust department acts as registrar and maintains this list for the firm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438120" y="93600"/>
            <a:ext cx="869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n.4    Jan.30    Feb.1                       Mar. 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8" name="Group 11"/>
          <p:cNvGrpSpPr/>
          <p:nvPr/>
        </p:nvGrpSpPr>
        <p:grpSpPr>
          <a:xfrm>
            <a:off x="873000" y="647640"/>
            <a:ext cx="7810560" cy="520920"/>
            <a:chOff x="873000" y="647640"/>
            <a:chExt cx="7810560" cy="520920"/>
          </a:xfrm>
        </p:grpSpPr>
        <p:sp>
          <p:nvSpPr>
            <p:cNvPr id="319" name="Line 6"/>
            <p:cNvSpPr/>
            <p:nvPr/>
          </p:nvSpPr>
          <p:spPr>
            <a:xfrm>
              <a:off x="873000" y="876240"/>
              <a:ext cx="7810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7"/>
            <p:cNvSpPr/>
            <p:nvPr/>
          </p:nvSpPr>
          <p:spPr>
            <a:xfrm>
              <a:off x="8683560" y="692280"/>
              <a:ext cx="0" cy="438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Line 8"/>
            <p:cNvSpPr/>
            <p:nvPr/>
          </p:nvSpPr>
          <p:spPr>
            <a:xfrm>
              <a:off x="2682720" y="68580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Line 9"/>
            <p:cNvSpPr/>
            <p:nvPr/>
          </p:nvSpPr>
          <p:spPr>
            <a:xfrm>
              <a:off x="4245120" y="64764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892080" y="66672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4" name="Rectangle 12"/>
          <p:cNvSpPr/>
          <p:nvPr/>
        </p:nvSpPr>
        <p:spPr>
          <a:xfrm>
            <a:off x="175320" y="1055520"/>
            <a:ext cx="89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lare      Ex-div.    Record                       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vidend      date         date                             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2600" y="69840"/>
            <a:ext cx="9099720" cy="222264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5461200" cy="7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idend Pay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6800" y="3048120"/>
            <a:ext cx="828684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ayment Dat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date on which the firm mails the dividend checks to the shareholders of recor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38120" y="93600"/>
            <a:ext cx="8693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Jan.4    Jan.30    Feb.1                       Mar. 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9" name="Group 11"/>
          <p:cNvGrpSpPr/>
          <p:nvPr/>
        </p:nvGrpSpPr>
        <p:grpSpPr>
          <a:xfrm>
            <a:off x="873000" y="647640"/>
            <a:ext cx="7810560" cy="520920"/>
            <a:chOff x="873000" y="647640"/>
            <a:chExt cx="7810560" cy="520920"/>
          </a:xfrm>
        </p:grpSpPr>
        <p:sp>
          <p:nvSpPr>
            <p:cNvPr id="330" name="Line 6"/>
            <p:cNvSpPr/>
            <p:nvPr/>
          </p:nvSpPr>
          <p:spPr>
            <a:xfrm>
              <a:off x="873000" y="876240"/>
              <a:ext cx="7810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>
              <a:off x="8683560" y="692280"/>
              <a:ext cx="0" cy="438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Line 8"/>
            <p:cNvSpPr/>
            <p:nvPr/>
          </p:nvSpPr>
          <p:spPr>
            <a:xfrm>
              <a:off x="2682720" y="68580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9"/>
            <p:cNvSpPr/>
            <p:nvPr/>
          </p:nvSpPr>
          <p:spPr>
            <a:xfrm>
              <a:off x="4245120" y="64764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Line 10"/>
            <p:cNvSpPr/>
            <p:nvPr/>
          </p:nvSpPr>
          <p:spPr>
            <a:xfrm>
              <a:off x="892080" y="666720"/>
              <a:ext cx="0" cy="482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5" name="Rectangle 12"/>
          <p:cNvSpPr/>
          <p:nvPr/>
        </p:nvSpPr>
        <p:spPr>
          <a:xfrm>
            <a:off x="175320" y="1055520"/>
            <a:ext cx="89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clare      Ex-div.    Record                       Pay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ividend      date         date                              d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ock dividen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payment of additional shares of stock to common stockhold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:  Citizens Bancorporation of Maryland announces a 5% stock dividend to all shareholders of record.  For each 100 shares held, shareholders receive another 5 sh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es the shareholders’ wealth increa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ock Spl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firm increases the number of shares outstanding and reduces the price of each sh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xample:  Joule, Inc. announce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-for-2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stock split.  For each 100 shares held, shareholders receive another 50 sh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oes this increase shareholder wealth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re a stock dividend and a stock split the sam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847520"/>
            <a:ext cx="7924680" cy="50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tock Splits and Stock Dividends are economically the sam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number of shares outstanding increases and the price of each share drops.  The value of the firm does not chan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A 3-for-2 stock split is the same as a 50% stock dividend.  For each 100 shares held, shareholders receive another 50 sh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42640" y="1542960"/>
            <a:ext cx="80010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ffects on Shareholder Wealth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2640" y="1542960"/>
            <a:ext cx="80010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ffects on Shareholder Wealth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se will cut the company “pie” into more pieces but will not create wealth.  A 100% stock dividend (or a 2-for-1 stock split) gives shareholders 2 half-sized pieces for each full-sized piece they previously ow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16"/>
          <p:cNvGrpSpPr/>
          <p:nvPr/>
        </p:nvGrpSpPr>
        <p:grpSpPr>
          <a:xfrm>
            <a:off x="1375560" y="1630440"/>
            <a:ext cx="5558760" cy="4190760"/>
            <a:chOff x="1375560" y="1630440"/>
            <a:chExt cx="5558760" cy="4190760"/>
          </a:xfrm>
        </p:grpSpPr>
        <p:sp>
          <p:nvSpPr>
            <p:cNvPr id="119" name="Oval 3"/>
            <p:cNvSpPr/>
            <p:nvPr/>
          </p:nvSpPr>
          <p:spPr>
            <a:xfrm>
              <a:off x="2025720" y="3054240"/>
              <a:ext cx="2406600" cy="1968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4057560" y="2133720"/>
              <a:ext cx="28767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>
              <a:off x="2400480" y="4114800"/>
              <a:ext cx="1657080" cy="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>
              <a:off x="5105520" y="409572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1375560" y="16304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1946160" y="5180040"/>
              <a:ext cx="27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apital Gain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95000" y="1466640"/>
            <a:ext cx="813420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-  Po  +  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-  P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442224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137448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23592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turn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2640" y="1542960"/>
            <a:ext cx="8001000" cy="53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ffects on Shareholder Wealth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se will cut the company “pie” into more pieces but will not create wealth.  A 100% stock dividend (or a 2-for-1 stock split) gives shareholders 2 half-sized pieces for each full-sized piece they previously own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example, this would double the number of shares, but would cause a $60 stock price to fall to $3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499520" cy="72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Stock Dividends and Stock Spli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hy bother?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oponents argue that these are used to reduce high stock prices to a “more popular”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rading rang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(generally $15 to $70 per share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pponents argue that most stocks are purchased by institutional investors who have millions of dollars to invest and are indifferent to price levels.  Plus, stock splits and stock dividends ar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pensiv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613728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Dividend Exampl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s outstanding: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,0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incom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6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;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stock dividend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n investor has 120 shares.  Does the value of the investor’s shares chang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fore the 25% stock dividen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PS = 6,000,000/1,000,000 = $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/E = P/6 = 10, so P = $60 per sh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Value = $60 x 120 shares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7,2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fter the 25% stock dividen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# shares = 1,000,000 x 1.25 = 1,250,00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PS = 6,000,000/1,250,000 = $4.8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/E = P/4.80 = 10, so P = $48 per sh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vestor now has 120 x 1.25 = 150 sh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Value = $48 x 150 =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7,2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137280" cy="13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tock Dividends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-class Problem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71240" y="23619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shares outstanding: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net income 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$750,000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stock price =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$84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50% stock dividend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at is the new stock pric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int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6705720" cy="46479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stock pric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/E  =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net inco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# sha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7" name="Group 4"/>
          <p:cNvGrpSpPr/>
          <p:nvPr/>
        </p:nvGrpSpPr>
        <p:grpSpPr>
          <a:xfrm>
            <a:off x="3657600" y="3048120"/>
            <a:ext cx="4146120" cy="1877040"/>
            <a:chOff x="3657600" y="3048120"/>
            <a:chExt cx="4146120" cy="1877040"/>
          </a:xfrm>
        </p:grpSpPr>
        <p:sp>
          <p:nvSpPr>
            <p:cNvPr id="358" name="Text Box 5"/>
            <p:cNvSpPr/>
            <p:nvPr/>
          </p:nvSpPr>
          <p:spPr>
            <a:xfrm>
              <a:off x="3657600" y="3048120"/>
              <a:ext cx="414612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700" spc="-1" strike="noStrike">
                  <a:solidFill>
                    <a:srgbClr val="ffffcc"/>
                  </a:solidFill>
                  <a:latin typeface="Times New Roman"/>
                </a:rPr>
                <a:t>(        )</a:t>
              </a:r>
              <a:endParaRPr b="0" lang="en-US" sz="117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9" name="Line 6"/>
            <p:cNvSpPr/>
            <p:nvPr/>
          </p:nvSpPr>
          <p:spPr>
            <a:xfrm>
              <a:off x="4299120" y="4114800"/>
              <a:ext cx="281916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0" name="Line 7"/>
            <p:cNvSpPr/>
            <p:nvPr/>
          </p:nvSpPr>
          <p:spPr>
            <a:xfrm>
              <a:off x="3765600" y="3276720"/>
              <a:ext cx="3962520" cy="0"/>
            </a:xfrm>
            <a:prstGeom prst="line">
              <a:avLst/>
            </a:prstGeom>
            <a:ln w="572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efore the 50% stock divide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PS = 750,000 / 250,000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E = 84 / 3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fter the 50% stock dividen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# shares = 250,000 x 1.50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75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PS = 750,000 / 375,000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E = P / 2 = 28, so P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6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a 50% stock dividend is equivalent to 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-for-2 stock split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479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purcha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ock Repurchases may be a good substitute for cash dividend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the firm has excess cash, why not buy back common stock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479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purcha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ock Repurchases may be a good substitute for cash dividend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the firm has excess cash, why not buy back common stock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523880" y="3719520"/>
            <a:ext cx="6019920" cy="31384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479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purcha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7543800" cy="50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purchas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ive up the stock pric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producing capital gains for shareholde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purchas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crease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and can be used to move toward the optimal capital structu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purchas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gnal positive informatio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o the market - which increases stock pri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14"/>
          <p:cNvGrpSpPr/>
          <p:nvPr/>
        </p:nvGrpSpPr>
        <p:grpSpPr>
          <a:xfrm>
            <a:off x="1375560" y="1630440"/>
            <a:ext cx="6771960" cy="4192200"/>
            <a:chOff x="1375560" y="1630440"/>
            <a:chExt cx="6771960" cy="4192200"/>
          </a:xfrm>
        </p:grpSpPr>
        <p:sp>
          <p:nvSpPr>
            <p:cNvPr id="130" name="Oval 2"/>
            <p:cNvSpPr/>
            <p:nvPr/>
          </p:nvSpPr>
          <p:spPr>
            <a:xfrm>
              <a:off x="4883040" y="3187800"/>
              <a:ext cx="1244880" cy="16826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" name="Oval 3"/>
            <p:cNvSpPr/>
            <p:nvPr/>
          </p:nvSpPr>
          <p:spPr>
            <a:xfrm>
              <a:off x="2025720" y="3054240"/>
              <a:ext cx="2406600" cy="19684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4057560" y="2133720"/>
              <a:ext cx="28767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7"/>
            <p:cNvSpPr/>
            <p:nvPr/>
          </p:nvSpPr>
          <p:spPr>
            <a:xfrm>
              <a:off x="2400480" y="4114800"/>
              <a:ext cx="165708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Line 8"/>
            <p:cNvSpPr/>
            <p:nvPr/>
          </p:nvSpPr>
          <p:spPr>
            <a:xfrm>
              <a:off x="5105520" y="4095720"/>
              <a:ext cx="685800" cy="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1375560" y="16304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" name="Rectangle 12"/>
            <p:cNvSpPr/>
            <p:nvPr/>
          </p:nvSpPr>
          <p:spPr>
            <a:xfrm>
              <a:off x="1946160" y="5180040"/>
              <a:ext cx="2711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apital Gain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" name="Rectangle 13"/>
            <p:cNvSpPr/>
            <p:nvPr/>
          </p:nvSpPr>
          <p:spPr>
            <a:xfrm>
              <a:off x="5028840" y="5181480"/>
              <a:ext cx="311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ividend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Yiel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8" name="Rectangle 9"/>
          <p:cNvSpPr/>
          <p:nvPr/>
        </p:nvSpPr>
        <p:spPr>
          <a:xfrm>
            <a:off x="442224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374480" y="371304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23592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turn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000" y="1466640"/>
            <a:ext cx="8134200" cy="49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-  Po  +  D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-  Po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479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purcha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purchases may be used to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void a hostile takeov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  T. Boone Pickens attempted raids on Phillips Petroleum and Unocal in 1985.  Both were unsuccessful because the target firms undertook stock repurch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33720" y="380520"/>
            <a:ext cx="54799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ock Repurcha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95280" y="12189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thod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uy shares in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en marke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hrough a broke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uy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arge bloc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by negotiating the purchase with a large block holder, usually an institution  (targeted stock repurchase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nder offer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  offer to pay a specific price to all current stockholde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65466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Dilemma:  Should the firm use retained earnings for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)  Financing profitable capital investment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)  Paying dividends to stockholder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240" y="2177640"/>
            <a:ext cx="883908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retain earnings for profitable investments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Group 11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46" name="Oval 3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Oval 4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Rectangle 5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240" y="2177640"/>
            <a:ext cx="883908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retain earnings for profitable investments,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ividend yield will be zero,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" name="Group 1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55" name="Oval 3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Oval 4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Rectangle 5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2" name="Line 11"/>
          <p:cNvSpPr/>
          <p:nvPr/>
        </p:nvSpPr>
        <p:spPr>
          <a:xfrm>
            <a:off x="8172360" y="266760"/>
            <a:ext cx="0" cy="15811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2177640"/>
            <a:ext cx="883908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we retain earnings for profitable investments, dividend yield will be zero,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t the stock price will increase, resulting in a higher capital gai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762840" y="25560"/>
            <a:ext cx="7416000" cy="1981080"/>
            <a:chOff x="762840" y="25560"/>
            <a:chExt cx="7416000" cy="1981080"/>
          </a:xfrm>
        </p:grpSpPr>
        <p:sp>
          <p:nvSpPr>
            <p:cNvPr id="165" name="Oval 4"/>
            <p:cNvSpPr/>
            <p:nvPr/>
          </p:nvSpPr>
          <p:spPr>
            <a:xfrm>
              <a:off x="6602400" y="217440"/>
              <a:ext cx="1241280" cy="16923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" name="Oval 5"/>
            <p:cNvSpPr/>
            <p:nvPr/>
          </p:nvSpPr>
          <p:spPr>
            <a:xfrm>
              <a:off x="3259080" y="25560"/>
              <a:ext cx="2398680" cy="19810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" name="Rectangle 6"/>
            <p:cNvSpPr/>
            <p:nvPr/>
          </p:nvSpPr>
          <p:spPr>
            <a:xfrm>
              <a:off x="1700280" y="455760"/>
              <a:ext cx="6478560" cy="12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-  Po               D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                     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Po                   P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Line 7"/>
            <p:cNvSpPr/>
            <p:nvPr/>
          </p:nvSpPr>
          <p:spPr>
            <a:xfrm>
              <a:off x="3594240" y="1033560"/>
              <a:ext cx="16524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Line 8"/>
            <p:cNvSpPr/>
            <p:nvPr/>
          </p:nvSpPr>
          <p:spPr>
            <a:xfrm>
              <a:off x="6878520" y="1073160"/>
              <a:ext cx="6858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5897160" y="7444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Rectangle 10"/>
            <p:cNvSpPr/>
            <p:nvPr/>
          </p:nvSpPr>
          <p:spPr>
            <a:xfrm>
              <a:off x="762840" y="701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Return =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2" name="Line 12"/>
          <p:cNvSpPr/>
          <p:nvPr/>
        </p:nvSpPr>
        <p:spPr>
          <a:xfrm flipV="1">
            <a:off x="3105000" y="133200"/>
            <a:ext cx="0" cy="1771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8172360" y="266760"/>
            <a:ext cx="0" cy="1581120"/>
          </a:xfrm>
          <a:prstGeom prst="line">
            <a:avLst/>
          </a:prstGeom>
          <a:ln w="76320">
            <a:solidFill>
              <a:srgbClr val="ffcc66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11T12:18:38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5:32Z</dcterms:modified>
  <cp:revision>36</cp:revision>
  <dc:subject>Ch. 17:  Dividend Policy and Internal Financing</dc:subject>
  <dc:title>Financial Management</dc:title>
</cp:coreProperties>
</file>